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B93E-608E-4CF7-BCCA-0318DC68B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0A9B-D9FB-405F-9FEE-1A385683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D85D-314B-4985-823A-7087C9BF3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6B27-BC73-46FA-B56A-4528951F0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4DE3-94A9-4885-8547-5A7F53AE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8656-1CD6-4770-BAC0-E4C40E80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E9F8-710D-435F-8821-1E5B059D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D02A-46EF-4D9A-8600-13233735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8AB2-E226-478C-9630-0D28538F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8F4B-658D-49C9-A5CA-33633E3A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1205-8BE5-4C9B-9D6C-276C1D68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E2B3-058C-4C5C-868E-7BC5B96C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DDBF-A2C3-4CC5-9A02-B8EA1917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F94D-791D-4587-A4F4-116CFCD3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4953-FC4B-4583-9D38-731CB80E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A9BF-E053-4861-A61F-74EA3CA9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706A-A13E-4767-B824-7F749EFF7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C375C-56E8-4DD1-8E07-18B83F2EA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A73C1-137C-4088-9608-E01116C1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4C847-EA81-40C6-A485-5D099B02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5E3F9-876D-4AE4-9411-231470F2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4BFC4-F081-43D8-BC5E-93D58184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2C4A-8D2A-4432-A683-634C66C1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9C80F-D734-4B8B-965F-4B8F77A2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2418C-9B40-4589-9E3F-6B703972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BFF23-01FA-45CA-89EA-BF028F04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8D976-AD7B-47A0-B38F-A70A02D9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2B2C2-B30F-4116-AA62-38D8F172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D941C-BA73-4C23-BBBD-AD056A8A4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FAB65-3F13-4A0D-B348-D082AEB41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1A973-8503-45CD-8881-7FBD31BE4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2C0BB-9D6C-4C4C-8577-C0F11419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6F1E7-37EF-4EB2-84BA-3C1C551A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13B5-FFB2-49D0-BF6B-B6568DCC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945C5-1165-4867-BDDD-F0BCE270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BF353-DB0F-4E84-9229-43DB28FD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657D2-EBB3-45B8-8835-C1CB0AA9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8A671-2571-429A-8831-44AD3FEC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A1CA1-9C1C-4154-9206-F963641E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91BFC-11B2-41C4-B583-54ED27A6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5217A-F531-4168-840A-3141DD59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E5B24-1C4F-49C4-9A94-4F6510409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8ADEC-740A-406B-B55B-7A0E4B47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09BFC-F237-4230-8872-B3905E018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4F26-53CD-4AB9-B1A3-E87FACB1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32BE9-3857-4079-879F-1810E86A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A4785-3968-4A41-83FB-4EFB840D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42720-6111-46C5-B273-2FB588A1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89939-564E-4615-AB85-17CECC22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CBF28-CB91-490A-ABA1-52F1FFE6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EACA4-11E2-4916-8768-BAAF7F1A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D82BA-28F1-4D7D-96B8-E26FD4E8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2AFF2-A507-417C-80E4-B2A07169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EDD16-0A6B-4CD3-9437-92007092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BF822-90A1-48A1-A2CA-58A8BBA06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6BD2-4B0F-4A3E-A747-A784446F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752D7-9CC7-4817-A0B6-403A3E9DD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A3D7D-CD39-420F-BE0B-9397780E8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A41AC-71E6-4170-973D-B7E7FAB9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B0076-6FDB-451C-BAA6-186D5060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02689-DA2A-453D-A262-0B676211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5EDB1-BE3F-4DD8-9C20-9240716A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0B14A-21C1-4C9B-9B0E-65741302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C9066-D4CF-4180-83CE-E0132FDE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FF26D-B495-4762-87CC-5490E740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583D8-F037-4AF0-B646-CAE02DF7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8E3D-FB2C-4972-8712-F11D3DD7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1B695-E68D-4C50-A894-9E82EEAD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FD785-1998-4AA4-BB73-F8376C31C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5CF66-304C-48AC-B439-8F3C557DA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08DE2-F3AD-452A-9AF5-46E0C94CE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EA46D-7F06-4699-859E-A170D431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AADA9-89C1-4E3F-A35B-F484736B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AFCC1-F77A-4639-8973-972A4A2F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0D997-4EBA-4428-83E9-65D025EA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54EC7-1B23-44BD-AB79-6DAFCCAD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1D160-ECE8-45E5-A744-C1D1E9D4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A419-23BC-42BB-A3A5-602CFF91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AD300-C286-406D-8983-9AEF1844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815D9-1A42-41B7-8D8C-855B9A86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85916-F2C4-473C-BB09-582DAE93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AB83A-5C4F-4222-878B-D97F7673F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53B3F-776A-4928-9E88-E74D71EEC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06CEF-D17A-4E49-AF65-3A930E75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07CDF-7949-4D9C-86FC-C07B45DD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CC0D6-E2ED-4085-B399-328EFCBE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494BA-4AC7-4756-8A8E-A93715F1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F9E0E-48E7-41D3-9DC6-20855C9C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3B57-50DB-48BF-BE2E-CAC46493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C3935-9A76-4675-9363-579C1B43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48E88-B32A-47E6-86F0-DE9D9452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A92C7-2826-47E2-B36D-EC8F211F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B48CC-B7E6-44E5-B3E3-9679BF31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16CAB-ADA9-4A89-B4AE-2B21B784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B50A1-A856-4609-84F8-F5343EC33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B26F3-2C4D-43BD-AF2E-4F4AF4589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unghi drept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Conector drep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0A15-8CBD-45EA-9BAB-1F7A7088DA35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unghi drept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8a8a8a"/>
              </a:gs>
              <a:gs pos="50000">
                <a:srgbClr val="e1e1e1"/>
              </a:gs>
              <a:gs pos="100000">
                <a:srgbClr val="8a8a8a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are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ă liberă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eaeae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ormă liberă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ormă liberă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ormă liberă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Conector drept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ADA0-CEE4-4038-BE77-E1A8E1AAB12B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În zigzag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În zigzag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112A-310B-4C3C-94F0-C0EA58AF09C5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1977-3AF9-4E5A-88D4-BA2377F85229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A171-1EBF-426D-8FCE-19F45AE570A9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D62F-224B-4497-A7A4-09B2F2DE5A5D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8D12-C079-4D62-B548-362FD3540CC1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ă liberă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rmă liberă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Triunghi drept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iunghi drept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Conector drept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În zigzag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În zigzag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E8CA-0040-44AC-AF8E-21EB07E75A4D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u 1" descr=""/>
          <p:cNvPicPr/>
          <p:nvPr/>
        </p:nvPicPr>
        <p:blipFill>
          <a:blip r:embed="rId1"/>
          <a:stretch/>
        </p:blipFill>
        <p:spPr>
          <a:xfrm>
            <a:off x="603360" y="542880"/>
            <a:ext cx="7785000" cy="18399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23640" y="2852640"/>
            <a:ext cx="8134200" cy="1959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ipuri de informaţii / date: numerice, şiruri de caractere (texte), imagini, logic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Lucida Sans Unicode"/>
              </a:rPr>
              <a:t>Tipul datei determină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Lucida Sans Unicode"/>
              </a:rPr>
              <a:t>- domeniul de valori pe care le poate lua dat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Lucida Sans Unicode"/>
              </a:rPr>
              <a:t>- prelucrările care se pot face cu acea dată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0" y="259920"/>
            <a:ext cx="9144000" cy="600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Lucida Sans Unicode"/>
              </a:rPr>
              <a:t>TIPURI DE DAT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1.Tipul numeric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este folosit pentru reprezentarea informației numerice(valorile numerice reale). Se pot folosi cifre de la 0-9,virgula, punctul, %, E, 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120.000=12X10</a:t>
            </a:r>
            <a:r>
              <a:rPr b="0" lang="ro-RO" sz="20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=12E4(scriere științifică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relucrările care se pot face cu acest tip de dată sunt prelucrările aritmetice și comparații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2. </a:t>
            </a: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Tipul șir de caractere 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este folosit pentru reprezentarea informației alfanumerice. Prelucrările care se pot face pe acest tip sunt concatenarea și comparații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3.Tipul logic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– este folosit pentru reprezentarea datelor care nu pot lua decât două valori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true sau fals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Se pot realiza prelucrări logic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4. Tipul dată calendaristică și tim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5. Tipul imag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1. </a:t>
            </a: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Fișie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2. Foi de calcul -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rogram de calcul tabelar (de ex. Excel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3. </a:t>
            </a:r>
            <a:r>
              <a:rPr b="1" lang="ro-RO" sz="2800" spc="-1" strike="noStrike">
                <a:solidFill>
                  <a:srgbClr val="000000"/>
                </a:solidFill>
                <a:latin typeface="Lucida Sans Unicode"/>
              </a:rPr>
              <a:t>Tabe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- permit gruparea unor date înrudite și este format din linii și coloa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4. Baze de date-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sunt formate din unul sau mai multe tabele între care se pot stabili legături numite relații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5. Lis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u 2" descr=""/>
          <p:cNvPicPr/>
          <p:nvPr/>
        </p:nvPicPr>
        <p:blipFill>
          <a:blip r:embed="rId1"/>
          <a:stretch/>
        </p:blipFill>
        <p:spPr>
          <a:xfrm>
            <a:off x="390600" y="-6480"/>
            <a:ext cx="824076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Aplicație: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onstruiți în registrul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Exemp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, un tabel cu cheltuielile lunare pentru utilități: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apă, gaze și electricitat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Tabelul va avea 15 coloane: una pentru tipul utilității, 12 pentru fiecare lună, una pentru totalul pe an al cheltuielilor pentru o utilitate și una cu media anuală a cheltuielilor pentru o utilitate. Când executați operații de copiere sau de selectare a celulelor de pe un rând, pentru a putea lucra cu toate coloanele micșorați scara de vizualizare la 50 %. După ce executați operația, reveniți la scara de afișare 100%. Dați foii de calcul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Cheltuieli anua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A. Introduceți în celula A1 titlul tabelului: Cheltuieli anua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B. Introduceți în rândul 2 anteturile pentru coloan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. Introduceți în coloana A anteturile pentru rândur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D. Formatați cu stilul bold titlul și anteturile de rânduri și coloa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E. Introduceți date în celulele B3:M5. Corectați datele introduse greșit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F. Selectați blocul de celule B3:M3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Apa 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G. Selectați blocul de celule B4:M4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Gaz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H. Selectați blocul de celule B5:M5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Electricitat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-324000" y="0"/>
            <a:ext cx="9468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Proiectarea unei baze de date – Material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1.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Tabelul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 Materiale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conține următoarele câmpur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Identificatorul materialulu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cod_mat,I). Va fi folosit pentru cheia primară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Numele materialulu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den_mat, C, 30). Acest câmp va fi cheie de indexar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Unitatea de măsur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um,C,4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Prețul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preț,S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Stocul de siguranț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stoc_s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Tabelul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Mișcăr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conține următoarele câmpur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Identificatorul materialului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 cod_mat,I)- identifică unic articolul și este folosit pentru cheia secundară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Tipul mișcării 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tip_m,C,1). Pot fi 2 tipuri de mișcări: intrarea unui material (I) și ieșirea unui material (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Cantitatea intrat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(cant_i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Cantitatea ieșit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cant_e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Data mișcării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data_m,D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Intre tabelul Materiale și tabelul Mișcări se stabilește o relație în care tabelul conducător este tabelul Materiale , tabelul condus este tabelul Mișcări, iar câmpul de legătură este codul materialulu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0:31:48Z</dcterms:created>
  <dc:creator>user</dc:creator>
  <dc:description/>
  <dc:language>en-US</dc:language>
  <cp:lastModifiedBy>Nik</cp:lastModifiedBy>
  <dcterms:modified xsi:type="dcterms:W3CDTF">2011-11-01T18:20:47Z</dcterms:modified>
  <cp:revision>15</cp:revision>
  <dc:subject/>
  <dc:title>I. Organizarea datelor </dc:title>
</cp:coreProperties>
</file>