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9DC-19BE-436A-8825-1B9DFCB8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C76-CC4D-4B72-9873-0435FD98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E9F-6A33-416E-93B3-D9C854EF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8F6-85B4-4A48-AC06-CDF49B5D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7417-C8E7-400A-98A1-D9B3BA18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98D6-DEE4-4C45-AE09-E30D4B39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206F-E45E-43A7-B5FA-26C082E2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BCC5-FB70-40E1-9B72-A10C1BD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C53-A801-4B1E-A7DE-39731E32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A15A-D3A7-4917-A579-698C416B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A50F-9918-4FF9-B8D0-9917A8F2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AA44-62AF-41A6-8448-4502E685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4351-8558-404B-BFCD-7861FD90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51CC-8BF1-4D82-8B77-0704269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6743-AE75-4605-BB45-D97592FE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020C-D2F4-4674-B62D-F94F09A5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0863-1A37-4DF2-9FF5-FF84EAFC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8B3B-B17F-4E2F-998E-6BEEAE64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4C94-E267-4E1B-BBA5-0DA908C5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65AB-52B9-4F58-BF83-19699F8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86AD-8D8A-4714-8E8B-3733403E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8F17-5E2B-4476-8501-4FE4CBF8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2B4-E383-43BF-B519-85B842FA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42CB-C07E-45CC-9487-F51A8A2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864F-BA0D-4DD5-A3D1-A1AF38C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D4B5-0F9A-472C-B75F-3F684B99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510F-43EC-4507-9FFE-AEF50016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EFC1-8091-4B4A-A892-3A255EC7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4DC9-8A75-4124-ADE1-8CD06CE3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9710-3E5B-4F5E-A094-DBA2C868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BB7D-7A14-4DC5-B439-F20D520A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9947-35A7-4AE8-A25E-B9ACDED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D571-BEC7-4053-9344-EBA16496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8E2-111F-4BB4-87EE-1CAC108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5856-2908-465C-A6FF-33B369B0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7963-DC35-4131-BEB9-9FC64CBC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1B204-76AA-45A7-8B9E-FCC92831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E2383-F6FC-43D7-9A9E-FC039561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E513-765A-4793-9D38-A3D7212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8013-F24A-48AC-BE49-8388384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A1A7-C872-4365-A6DF-E527A71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BED0-6F40-4AF0-AA22-1AF49D2D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49114-8F85-4D8A-B33A-2FA2731A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AC98C-FDAE-4333-8CB6-5C3426D7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055-AB4A-4B82-9725-DF40398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F25BF-B8EB-4626-90E6-7FC10B55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B8F75-0D2A-4203-8DF2-85FEF9E3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73DB4-7C59-47EA-88E7-5C804067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D78E-F413-473C-B57A-E8B3B22C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8D508-BA19-4166-8893-2917A795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DF5BE-DC2B-4793-9B94-AE7AA67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5476F-8BBA-47B4-AE4A-FE6F2E2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6F110-5B70-4A3B-BF89-0F0DC0A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2AEB4-BDEE-44AF-BD18-9FA128E1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3C84-D9C4-4140-87D2-C4969558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2CD-04F6-4E6C-A9DB-E9903891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9F09-42CD-4AD6-9ADB-91D87BCC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76262-49E6-4B9C-A63E-5BEC00A0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7CCA5-DDA3-4921-A41B-72FD962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9084D-8D30-4F18-9FD8-C83DBA46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92BF-8E56-4B57-83F1-D5F95461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EF1C9-B2C6-4DCF-8017-6F92BD06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C0D15-C70A-4481-BCB4-5501C043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0DF9-A94E-4132-9E07-1F24744E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03A2F-992B-4AB0-B6F3-E91B9648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C92B-C267-4DB1-B2E9-87E0E032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2B6-1658-44B1-9C18-2F53DCD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009F-A071-4035-AFF4-6C19E671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7CCF7-B48C-4D06-8A15-2DCFE770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5DB55-DCBF-49B2-A9DB-C7A0FD6E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457D-5AA4-4945-8FD4-3DD6AEC5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9C980-218C-4758-9305-CDA311CF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749A4-FAA2-4390-9027-5175E657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A0C20-79AC-4A56-BE95-316FFCD2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6354-7F13-4DC6-B91E-F724D048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CEEEF-7DEB-4EAC-969D-2DAF3643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22474-C537-417D-9F20-244A566B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F35-3719-43FC-8D12-B7137449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1FCDD-C9F5-402B-87BD-0D94719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770B-7162-4631-8017-6017DB4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BA556-749D-4099-B69C-9C64966D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91158-9684-4C12-B737-92F88A10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5666B-8793-4295-AC48-C954EE02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7B04E-010A-4D33-A712-4C4963E1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107CB-1FCB-40B0-BD89-027E28BA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4E9B-8697-442B-BDD1-2E17B4BA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9156F-1056-4C58-AB8B-4FB538FD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093D6-605A-4124-AC6D-1D121E3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BB5E-B0B6-4401-9753-C9DFAF2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63D2-F4DC-4436-BF53-2A4E684C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9A25F-92D6-4D72-99D4-5C3CC00D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1F3E8-E5B8-4EE9-A18A-64324C7D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9C18E-13AB-4DF7-814C-2BFAE47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9DD84-E820-405B-BBB7-B195B943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445AB-B0F0-40FE-BCAB-E1D11E0C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6042C-A311-425E-8964-7F732783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unghi drep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drep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D2C9-7D61-4D08-BF22-807C529255C3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unghi drep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a8a8a"/>
              </a:gs>
              <a:gs pos="50000">
                <a:srgbClr val="e1e1e1"/>
              </a:gs>
              <a:gs pos="100000">
                <a:srgbClr val="8a8a8a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re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ă liberă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eaea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ă liberă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ă liberă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ă liberă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drept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1542-D170-42A8-8767-35A8A6823E3A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În zigzag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În zigzag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A12-03C5-47F2-9E23-A2660F3E79CE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D2E4-0970-4D31-B7E2-0476004F52F8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3D03-BCA3-4551-8DA5-32A167A91544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ă liberă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ă liberă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unghi drep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unghi drep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drep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ED91-40D8-4FBA-9CC6-EA4653EA52F4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CF4D-26EC-47F1-A19E-D2D1A5D5F90D}" type="slidenum"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ă liberă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ă liberă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unghi drep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unghi drep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drept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În zigzag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În zigzag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e6e6e6"/>
              </a:gs>
            </a:gsLst>
            <a:lin ang="16200000"/>
          </a:gradFill>
          <a:ln cap="rnd" w="3240">
            <a:solidFill>
              <a:srgbClr val="a2a2a2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8f8f8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8f8f8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2b2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4E51-9C40-48E7-B3CF-88B9BF1F5ECB}" type="slidenum">
              <a:rPr b="0" lang="ro-R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u 1" descr=""/>
          <p:cNvPicPr/>
          <p:nvPr/>
        </p:nvPicPr>
        <p:blipFill>
          <a:blip r:embed="rId1"/>
          <a:stretch/>
        </p:blipFill>
        <p:spPr>
          <a:xfrm>
            <a:off x="603360" y="542880"/>
            <a:ext cx="7785000" cy="18399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134200" cy="1959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ipuri de informaţii / date: numerice, şiruri de caractere (texte), imagini, logi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000000"/>
                </a:solidFill>
                <a:latin typeface="Lucida Sans Unicode"/>
              </a:rPr>
              <a:t>Tipul datei determină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domeniul de valori pe care le poate lua dat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Lucida Sans Unicode"/>
              </a:rPr>
              <a:t>- prelucrările care se pot face cu acea dată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0" y="259920"/>
            <a:ext cx="9144000" cy="600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Lucida Sans Unicode"/>
              </a:rPr>
              <a:t>TIPURI DE D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1.Tipul numeric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este folosit pentru reprezentarea informației numerice(valorile numerice reale). Se pot folosi cifre de la 0-9,virgula, punctul, %, E, 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120.000=12X10</a:t>
            </a:r>
            <a:r>
              <a:rPr b="0" lang="ro-RO" sz="20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=12E4(scriere științific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elucrările care se pot face cu acest tip de dată sunt prelucrările aritmetice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Tipul șir de caractere </a:t>
            </a: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ste folosit pentru reprezentarea informației alfanumerice. Prelucrările care se pot face pe acest tip sunt concatenarea și comparații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Tipul logic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– este folosit pentru reprezentarea datelor care nu pot lua decât două valori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true sau fals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Se pot realiza prelucrări logic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Tipul dată calendaristică și tim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Tipul imag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Fiși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2. Foi de calcul 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program de calcul tabelar (de ex. Exce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3. </a:t>
            </a:r>
            <a:r>
              <a:rPr b="1" lang="ro-RO" sz="2800" spc="-1" strike="noStrike">
                <a:solidFill>
                  <a:srgbClr val="000000"/>
                </a:solidFill>
                <a:latin typeface="Lucida Sans Unicode"/>
              </a:rPr>
              <a:t>Tabe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- permit gruparea unor date înrudite și este format din lini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4. Baze de date-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sunt formate din unul sau mai multe tabele între care se pot stabili legături numite relații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Lucida Sans Unicode"/>
              </a:rPr>
              <a:t>5. Lis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u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Aplicație: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onstruiți în registrul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xemp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, un tabel cu cheltuielile lunare pentru utilități: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ă, gaze și electricitat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. Tabelul va avea 15 coloane: una pentru tipul utilității, 12 pentru fiecare lună, una pentru totalul pe an al cheltuielilor pentru o utilitate și una cu media anuală a cheltuielilor pentru o utilitate. Când executați operații de copiere sau de selectare a celulelor de pe un rând, pentru a putea lucra cu toate coloanele micșorați scara de vizualizare la 50 %. După ce executați operația, reveniți la scara de afișare 100%. Dați foii de calcul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Cheltuieli anuale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. Introduceți în celula A1 titlul tabelului: Cheltuieli anua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B. Introduceți în rândul 2 anteturile pentru coloan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C. Introduceți în coloana A anteturile pentru rândur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D. Formatați cu stilul bold titlul și anteturile de rânduri și coloa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. Introduceți date în celulele B3:M5. Corectați datele introduse greși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F. Selectați blocul de celule B3:M3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pa 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G. Selectați blocul de celule B4:M4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Ga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H. Selectați blocul de celule B5:M5 și îi atribuiți numele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Electricita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Proiectarea unei baze de date – Materia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Materiale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od_mat,I). Va fi folosit pentru cheia primar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Numele materialulu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en_mat, C, 30). Acest câmp va fi cheie de indexa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Unitatea de măsur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um,C,4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Prețu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preț,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tocul de siguranț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stoc_s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Tabelul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Mișcări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conține următoarele câmpuri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dentificatorul materialulu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 cod_mat,I)- identifică unic articolul și este folosit pentru cheia secundar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Tipul mișcării 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tip_m,C,1). Pot fi 2 tipuri de mișcări: intrarea unui material (I) și ieșirea unui material (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ntra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 (cant_i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antitatea ieșită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cant_e,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Data mișcării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(data_m,D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Intre tabelul Materiale și tabelul Mișcări se stabilește o relație în care tabelul conducător este tabelul Materiale , tabelul condus este tabelul Mișcări, iar câmpul de legătură este codul materialulu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dddddd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0:31:48Z</dcterms:created>
  <dc:creator>user</dc:creator>
  <dc:description/>
  <dc:language>en-US</dc:language>
  <cp:lastModifiedBy>Nik</cp:lastModifiedBy>
  <dcterms:modified xsi:type="dcterms:W3CDTF">2011-11-01T18:20:47Z</dcterms:modified>
  <cp:revision>15</cp:revision>
  <dc:subject/>
  <dc:title>I. Organizarea datelor </dc:title>
</cp:coreProperties>
</file>